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078-9806-45CA-911D-E7354311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56E-7258-419C-A12D-2147A7D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587-8D98-4CFA-8333-FE165F58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A4A-B868-4DD7-A250-5DF2A6A2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D84-D051-4BE5-B0E8-1710D583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748-925C-4A4A-AB0D-2BB7E5F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179-2037-4A24-85C7-D88BE87B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6A3-C627-4E41-8DE8-77611C0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C0-6565-48EF-8559-F07EFD9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C05-B1E7-4E28-A5C7-E1A27B1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DC0-01F4-4564-8AA7-08AE4EE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BD3-C82E-4F7D-AD13-4DBAC8F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8b8d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764-35B2-4E3B-8B40-C69DA94FE8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Materiálové porovnání otopných so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r Ing. 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971640" y="1484280"/>
          <a:ext cx="720864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864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755640" y="1484280"/>
          <a:ext cx="7564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564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Porov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826920" y="1557360"/>
          <a:ext cx="7564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46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ff33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342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ff33"/>
                </a:solidFill>
                <a:latin typeface="Arial"/>
              </a:rPr>
              <a:t>Petr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3" descr="2.NPd.jpg"/>
          <p:cNvPicPr/>
          <p:nvPr/>
        </p:nvPicPr>
        <p:blipFill>
          <a:blip r:embed="rId1"/>
          <a:stretch/>
        </p:blipFill>
        <p:spPr>
          <a:xfrm>
            <a:off x="250920" y="1268280"/>
            <a:ext cx="86929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1.NPd.jpg"/>
          <p:cNvPicPr/>
          <p:nvPr/>
        </p:nvPicPr>
        <p:blipFill>
          <a:blip r:embed="rId1"/>
          <a:stretch/>
        </p:blipFill>
        <p:spPr>
          <a:xfrm>
            <a:off x="755640" y="1285920"/>
            <a:ext cx="78836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Dvoutrubková soustava sché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3" descr="Schemad.jpg"/>
          <p:cNvPicPr/>
          <p:nvPr/>
        </p:nvPicPr>
        <p:blipFill>
          <a:blip r:embed="rId1"/>
          <a:srcRect l="0" t="11170" r="0" b="0"/>
          <a:stretch/>
        </p:blipFill>
        <p:spPr>
          <a:xfrm>
            <a:off x="539640" y="1557360"/>
            <a:ext cx="809964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2.NPc.jpg"/>
          <p:cNvPicPr/>
          <p:nvPr/>
        </p:nvPicPr>
        <p:blipFill>
          <a:blip r:embed="rId1"/>
          <a:stretch/>
        </p:blipFill>
        <p:spPr>
          <a:xfrm>
            <a:off x="611280" y="1235160"/>
            <a:ext cx="795636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1.NPc.jpg"/>
          <p:cNvPicPr/>
          <p:nvPr/>
        </p:nvPicPr>
        <p:blipFill>
          <a:blip r:embed="rId1"/>
          <a:stretch/>
        </p:blipFill>
        <p:spPr>
          <a:xfrm>
            <a:off x="755640" y="1268280"/>
            <a:ext cx="766764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Centrální soustava </a:t>
            </a:r>
            <a:br>
              <a:rPr sz="4000"/>
            </a:b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požadavek invest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Clanek.jpg"/>
          <p:cNvPicPr/>
          <p:nvPr/>
        </p:nvPicPr>
        <p:blipFill>
          <a:blip r:embed="rId1"/>
          <a:srcRect l="0" t="6674" r="0" b="0"/>
          <a:stretch/>
        </p:blipFill>
        <p:spPr>
          <a:xfrm>
            <a:off x="826920" y="1700280"/>
            <a:ext cx="759636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2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3" descr="2.NPj.jpg"/>
          <p:cNvPicPr/>
          <p:nvPr/>
        </p:nvPicPr>
        <p:blipFill>
          <a:blip r:embed="rId1"/>
          <a:stretch/>
        </p:blipFill>
        <p:spPr>
          <a:xfrm>
            <a:off x="900000" y="1413000"/>
            <a:ext cx="7523280" cy="531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Arial"/>
              </a:rPr>
              <a:t>Jednotrubková  soustava 1.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1.NPj.jpg"/>
          <p:cNvPicPr/>
          <p:nvPr/>
        </p:nvPicPr>
        <p:blipFill>
          <a:blip r:embed="rId1"/>
          <a:stretch/>
        </p:blipFill>
        <p:spPr>
          <a:xfrm>
            <a:off x="826920" y="1387440"/>
            <a:ext cx="774072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11:35Z</dcterms:created>
  <dc:creator>.</dc:creator>
  <dc:description/>
  <dc:language>en-US</dc:language>
  <cp:lastModifiedBy>user</cp:lastModifiedBy>
  <dcterms:modified xsi:type="dcterms:W3CDTF">2016-10-06T18:41:36Z</dcterms:modified>
  <cp:revision>24</cp:revision>
  <dc:subject/>
  <dc:title>JEDNOTRUBKA A PODLAHOVÉ VYTÁPĚNÍ</dc:title>
</cp:coreProperties>
</file>